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00FEF-71DE-4BA7-9E4B-587B2AEA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A53BD-6E31-41F2-949D-CDF1C035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30D2D-B92D-4A07-95C6-1E709474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A17B0-FB91-4E51-A554-7A09FA84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AC33-6E08-443C-8985-8A14040D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5C8F-2AFE-46D5-A32D-851EB729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2A31-DBD0-4F9C-96BC-B61EFB92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6743-276A-4898-9C2F-B595B29E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333D-A926-47FB-8AC6-B8FF38B8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1B39-D12D-4C72-A871-06965CD1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B598-9000-45D6-A97A-30719516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702E2-4B68-4A5F-8545-51FAD28E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1087-6D3A-4C62-97D7-0A04EB38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40D9-914D-482D-96EB-0C159295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6E55-E599-4D9E-AA71-15F6EDCE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2263-9EC4-4F76-B82D-5CF01757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023C-60F6-4263-8D38-B527D5D1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0E7FF-C75B-411E-B331-2C1178BC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92BED-AB4B-468D-B3FB-CECA6699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3C064-2556-46FE-A2F2-1A5E66C4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F4B04-85FA-44BF-8DAB-E49AAAF6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352F4-7F30-40C1-B968-17334197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9E430-3C37-46D5-874C-C991E2D6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683B2-1642-4339-865E-C560762E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DBC8-9A3E-44E2-BE77-5623B678C8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0959-F87C-49BB-8D69-2791A064C4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Урок природоведения                                     «Водоемы нашего края»</a:t>
            </a:r>
            <a:br>
              <a:rPr sz="5400"/>
            </a:b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 4 класс</a:t>
            </a:r>
            <a:br>
              <a:rPr sz="5400"/>
            </a:b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(по учебнику А.А.Плешакова «Окружающий мир»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24000" y="4149360"/>
            <a:ext cx="74484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работала и провела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итель начальных класс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авлова Элеонора Васильевна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3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.Шульган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rcRect l="1749" t="3248" r="51320" b="52356"/>
          <a:stretch/>
        </p:blipFill>
        <p:spPr>
          <a:xfrm>
            <a:off x="1042920" y="1600200"/>
            <a:ext cx="7129440" cy="478152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5">
            <a:hlinkClick r:id="" action="ppaction://hlinkshowjump?jump=previousslide"/>
          </p:cNvPr>
          <p:cNvSpPr/>
          <p:nvPr/>
        </p:nvSpPr>
        <p:spPr>
          <a:xfrm>
            <a:off x="8317080" y="5877000"/>
            <a:ext cx="826920" cy="709560"/>
          </a:xfrm>
          <a:custGeom>
            <a:avLst/>
            <a:gdLst>
              <a:gd name="textAreaLeft" fmla="*/ 45720 w 826920"/>
              <a:gd name="textAreaRight" fmla="*/ 781200 w 826920"/>
              <a:gd name="textAreaTop" fmla="*/ 45720 h 709560"/>
              <a:gd name="textAreaBottom" fmla="*/ 663840 h 709560"/>
            </a:gdLst>
            <a:ahLst/>
            <a:rect l="textAreaLeft" t="textAreaTop" r="textAreaRight" b="textAreaBottom"/>
            <a:pathLst>
              <a:path w="25171" h="21600">
                <a:moveTo>
                  <a:pt x="0" y="0"/>
                </a:moveTo>
                <a:lnTo>
                  <a:pt x="25171" y="0"/>
                </a:lnTo>
                <a:lnTo>
                  <a:pt x="25171" y="21600"/>
                </a:lnTo>
                <a:lnTo>
                  <a:pt x="0" y="21600"/>
                </a:lnTo>
                <a:close/>
              </a:path>
              <a:path fill="lightenLess" w="25171" h="21600">
                <a:moveTo>
                  <a:pt x="0" y="0"/>
                </a:moveTo>
                <a:lnTo>
                  <a:pt x="25171" y="0"/>
                </a:lnTo>
                <a:lnTo>
                  <a:pt x="23771" y="1400"/>
                </a:lnTo>
                <a:lnTo>
                  <a:pt x="1400" y="1400"/>
                </a:lnTo>
                <a:close/>
              </a:path>
              <a:path fill="darken" w="25171" h="21600">
                <a:moveTo>
                  <a:pt x="25171" y="0"/>
                </a:moveTo>
                <a:lnTo>
                  <a:pt x="25171" y="21600"/>
                </a:lnTo>
                <a:lnTo>
                  <a:pt x="23771" y="20200"/>
                </a:lnTo>
                <a:lnTo>
                  <a:pt x="23771" y="1400"/>
                </a:lnTo>
                <a:close/>
              </a:path>
              <a:path fill="darkenLess" w="25171" h="21600">
                <a:moveTo>
                  <a:pt x="25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71" y="20200"/>
                </a:lnTo>
                <a:close/>
              </a:path>
              <a:path fill="lighten" w="25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4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р.Шульган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48961" t="1476" r="2029" b="52356"/>
          <a:stretch/>
        </p:blipFill>
        <p:spPr>
          <a:xfrm>
            <a:off x="1258920" y="1600200"/>
            <a:ext cx="6913440" cy="45259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5">
            <a:hlinkClick r:id="" action="ppaction://hlinkshowjump?jump=previousslide"/>
          </p:cNvPr>
          <p:cNvSpPr/>
          <p:nvPr/>
        </p:nvSpPr>
        <p:spPr>
          <a:xfrm>
            <a:off x="8244000" y="5815080"/>
            <a:ext cx="720720" cy="78264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82640"/>
              <a:gd name="textAreaBottom" fmla="*/ 736200 h 782640"/>
            </a:gdLst>
            <a:ahLst/>
            <a:rect l="textAreaLeft" t="textAreaTop" r="textAreaRight" b="textAreaBottom"/>
            <a:pathLst>
              <a:path w="21600" h="23455">
                <a:moveTo>
                  <a:pt x="0" y="0"/>
                </a:moveTo>
                <a:lnTo>
                  <a:pt x="21600" y="0"/>
                </a:lnTo>
                <a:lnTo>
                  <a:pt x="21600" y="23455"/>
                </a:lnTo>
                <a:lnTo>
                  <a:pt x="0" y="23455"/>
                </a:lnTo>
                <a:close/>
              </a:path>
              <a:path fill="lightenLess" w="21600" h="234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55">
                <a:moveTo>
                  <a:pt x="21600" y="0"/>
                </a:moveTo>
                <a:lnTo>
                  <a:pt x="21600" y="23455"/>
                </a:lnTo>
                <a:lnTo>
                  <a:pt x="20200" y="22055"/>
                </a:lnTo>
                <a:lnTo>
                  <a:pt x="20200" y="1400"/>
                </a:lnTo>
                <a:close/>
              </a:path>
              <a:path fill="darkenLess" w="21600" h="23455">
                <a:moveTo>
                  <a:pt x="21600" y="23455"/>
                </a:moveTo>
                <a:lnTo>
                  <a:pt x="0" y="23455"/>
                </a:lnTo>
                <a:lnTo>
                  <a:pt x="1400" y="22055"/>
                </a:lnTo>
                <a:lnTo>
                  <a:pt x="20200" y="22055"/>
                </a:lnTo>
                <a:close/>
              </a:path>
              <a:path fill="lighten" w="21600" h="23455">
                <a:moveTo>
                  <a:pt x="0" y="234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55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5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исунки в Каповой пещер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rcRect l="1754" t="50720" r="54778" b="726"/>
          <a:stretch/>
        </p:blipFill>
        <p:spPr>
          <a:xfrm>
            <a:off x="1187280" y="1600200"/>
            <a:ext cx="7129800" cy="452592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5">
            <a:hlinkClick r:id="" action="ppaction://hlinkshowjump?jump=previousslide"/>
          </p:cNvPr>
          <p:cNvSpPr/>
          <p:nvPr/>
        </p:nvSpPr>
        <p:spPr>
          <a:xfrm>
            <a:off x="8459640" y="5815080"/>
            <a:ext cx="684360" cy="85392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853920"/>
              <a:gd name="textAreaBottom" fmla="*/ 809640 h 853920"/>
            </a:gdLst>
            <a:ahLst/>
            <a:rect l="textAreaLeft" t="textAreaTop" r="textAreaRight" b="textAreaBottom"/>
            <a:pathLst>
              <a:path w="21600" h="26949">
                <a:moveTo>
                  <a:pt x="0" y="0"/>
                </a:moveTo>
                <a:lnTo>
                  <a:pt x="21600" y="0"/>
                </a:lnTo>
                <a:lnTo>
                  <a:pt x="21600" y="26949"/>
                </a:lnTo>
                <a:lnTo>
                  <a:pt x="0" y="26949"/>
                </a:lnTo>
                <a:close/>
              </a:path>
              <a:path fill="lightenLess" w="21600" h="269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49">
                <a:moveTo>
                  <a:pt x="21600" y="0"/>
                </a:moveTo>
                <a:lnTo>
                  <a:pt x="21600" y="26949"/>
                </a:lnTo>
                <a:lnTo>
                  <a:pt x="20200" y="25549"/>
                </a:lnTo>
                <a:lnTo>
                  <a:pt x="20200" y="1400"/>
                </a:lnTo>
                <a:close/>
              </a:path>
              <a:path fill="darkenLess" w="21600" h="26949">
                <a:moveTo>
                  <a:pt x="21600" y="26949"/>
                </a:moveTo>
                <a:lnTo>
                  <a:pt x="0" y="26949"/>
                </a:lnTo>
                <a:lnTo>
                  <a:pt x="1400" y="25549"/>
                </a:lnTo>
                <a:lnTo>
                  <a:pt x="20200" y="25549"/>
                </a:lnTo>
                <a:close/>
              </a:path>
              <a:path fill="lighten" w="21600" h="26949">
                <a:moveTo>
                  <a:pt x="0" y="269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4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6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рисунки в Каповой пещер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45326" t="50554" r="3987" b="892"/>
          <a:stretch/>
        </p:blipFill>
        <p:spPr>
          <a:xfrm>
            <a:off x="1258920" y="1600200"/>
            <a:ext cx="6842160" cy="452592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5">
            <a:hlinkClick r:id="" action="ppaction://hlinkshowjump?jump=previousslide"/>
          </p:cNvPr>
          <p:cNvSpPr/>
          <p:nvPr/>
        </p:nvSpPr>
        <p:spPr>
          <a:xfrm>
            <a:off x="8317080" y="5815080"/>
            <a:ext cx="647640" cy="782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82640"/>
              <a:gd name="textAreaBottom" fmla="*/ 740880 h 782640"/>
            </a:gdLst>
            <a:ahLst/>
            <a:rect l="textAreaLeft" t="textAreaTop" r="textAreaRight" b="textAreaBottom"/>
            <a:pathLst>
              <a:path w="21600" h="26100">
                <a:moveTo>
                  <a:pt x="0" y="0"/>
                </a:moveTo>
                <a:lnTo>
                  <a:pt x="21600" y="0"/>
                </a:lnTo>
                <a:lnTo>
                  <a:pt x="21600" y="26100"/>
                </a:lnTo>
                <a:lnTo>
                  <a:pt x="0" y="26100"/>
                </a:lnTo>
                <a:close/>
              </a:path>
              <a:path fill="lightenLess" w="21600" h="261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00">
                <a:moveTo>
                  <a:pt x="21600" y="0"/>
                </a:moveTo>
                <a:lnTo>
                  <a:pt x="21600" y="26100"/>
                </a:lnTo>
                <a:lnTo>
                  <a:pt x="20200" y="24700"/>
                </a:lnTo>
                <a:lnTo>
                  <a:pt x="20200" y="1400"/>
                </a:lnTo>
                <a:close/>
              </a:path>
              <a:path fill="darkenLess" w="21600" h="26100">
                <a:moveTo>
                  <a:pt x="21600" y="26100"/>
                </a:moveTo>
                <a:lnTo>
                  <a:pt x="0" y="26100"/>
                </a:lnTo>
                <a:lnTo>
                  <a:pt x="1400" y="24700"/>
                </a:lnTo>
                <a:lnTo>
                  <a:pt x="20200" y="24700"/>
                </a:lnTo>
                <a:close/>
              </a:path>
              <a:path fill="lighten" w="21600" h="26100">
                <a:moveTo>
                  <a:pt x="0" y="261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7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авловское водохранилищ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6842160" cy="46800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5">
            <a:hlinkClick r:id="" action="ppaction://hlinkshowjump?jump=previousslide"/>
          </p:cNvPr>
          <p:cNvSpPr/>
          <p:nvPr/>
        </p:nvSpPr>
        <p:spPr>
          <a:xfrm>
            <a:off x="8317080" y="5589720"/>
            <a:ext cx="576000" cy="71892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718920"/>
              <a:gd name="textAreaBottom" fmla="*/ 681840 h 718920"/>
            </a:gdLst>
            <a:ahLst/>
            <a:rect l="textAreaLeft" t="textAreaTop" r="textAreaRight" b="textAreaBottom"/>
            <a:pathLst>
              <a:path w="21600" h="26956">
                <a:moveTo>
                  <a:pt x="0" y="0"/>
                </a:moveTo>
                <a:lnTo>
                  <a:pt x="21600" y="0"/>
                </a:lnTo>
                <a:lnTo>
                  <a:pt x="21600" y="26956"/>
                </a:lnTo>
                <a:lnTo>
                  <a:pt x="0" y="26956"/>
                </a:lnTo>
                <a:close/>
              </a:path>
              <a:path fill="lightenLess" w="21600" h="269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56">
                <a:moveTo>
                  <a:pt x="21600" y="0"/>
                </a:moveTo>
                <a:lnTo>
                  <a:pt x="21600" y="26956"/>
                </a:lnTo>
                <a:lnTo>
                  <a:pt x="20200" y="25556"/>
                </a:lnTo>
                <a:lnTo>
                  <a:pt x="20200" y="1400"/>
                </a:lnTo>
                <a:close/>
              </a:path>
              <a:path fill="darkenLess" w="21600" h="26956">
                <a:moveTo>
                  <a:pt x="21600" y="26956"/>
                </a:moveTo>
                <a:lnTo>
                  <a:pt x="0" y="26956"/>
                </a:lnTo>
                <a:lnTo>
                  <a:pt x="1400" y="25556"/>
                </a:lnTo>
                <a:lnTo>
                  <a:pt x="20200" y="25556"/>
                </a:lnTo>
                <a:close/>
              </a:path>
              <a:path fill="lighten" w="21600" h="26956">
                <a:moveTo>
                  <a:pt x="0" y="269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5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8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Павловское водохранилищ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481800" cy="446436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5">
            <a:hlinkClick r:id="" action="ppaction://hlinkshowjump?jump=previousslide"/>
          </p:cNvPr>
          <p:cNvSpPr/>
          <p:nvPr/>
        </p:nvSpPr>
        <p:spPr>
          <a:xfrm>
            <a:off x="8172360" y="5516640"/>
            <a:ext cx="576360" cy="792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92000"/>
              <a:gd name="textAreaBottom" fmla="*/ 754920 h 792000"/>
            </a:gdLst>
            <a:ahLst/>
            <a:rect l="textAreaLeft" t="textAreaTop" r="textAreaRight" b="textAreaBottom"/>
            <a:pathLst>
              <a:path w="21600" h="29676">
                <a:moveTo>
                  <a:pt x="0" y="0"/>
                </a:moveTo>
                <a:lnTo>
                  <a:pt x="21600" y="0"/>
                </a:lnTo>
                <a:lnTo>
                  <a:pt x="21600" y="29676"/>
                </a:lnTo>
                <a:lnTo>
                  <a:pt x="0" y="29676"/>
                </a:lnTo>
                <a:close/>
              </a:path>
              <a:path fill="lightenLess" w="21600" h="296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76">
                <a:moveTo>
                  <a:pt x="21600" y="0"/>
                </a:moveTo>
                <a:lnTo>
                  <a:pt x="21600" y="29676"/>
                </a:lnTo>
                <a:lnTo>
                  <a:pt x="20200" y="28276"/>
                </a:lnTo>
                <a:lnTo>
                  <a:pt x="20200" y="1400"/>
                </a:lnTo>
                <a:close/>
              </a:path>
              <a:path fill="darkenLess" w="21600" h="29676">
                <a:moveTo>
                  <a:pt x="21600" y="29676"/>
                </a:moveTo>
                <a:lnTo>
                  <a:pt x="0" y="29676"/>
                </a:lnTo>
                <a:lnTo>
                  <a:pt x="1400" y="28276"/>
                </a:lnTo>
                <a:lnTo>
                  <a:pt x="20200" y="28276"/>
                </a:lnTo>
                <a:close/>
              </a:path>
              <a:path fill="lighten" w="21600" h="29676">
                <a:moveTo>
                  <a:pt x="0" y="296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7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9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.Уршак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rcRect l="4145" t="0" r="639" b="7407"/>
          <a:stretch/>
        </p:blipFill>
        <p:spPr>
          <a:xfrm>
            <a:off x="1116000" y="1700280"/>
            <a:ext cx="6335640" cy="453708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5">
            <a:hlinkClick r:id="" action="ppaction://hlinkshowjump?jump=previousslide"/>
          </p:cNvPr>
          <p:cNvSpPr/>
          <p:nvPr/>
        </p:nvSpPr>
        <p:spPr>
          <a:xfrm>
            <a:off x="8101080" y="5815080"/>
            <a:ext cx="647640" cy="70956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09560"/>
              <a:gd name="textAreaBottom" fmla="*/ 667800 h 709560"/>
            </a:gdLst>
            <a:ahLst/>
            <a:rect l="textAreaLeft" t="textAreaTop" r="textAreaRight" b="textAreaBottom"/>
            <a:pathLst>
              <a:path w="21600" h="23664">
                <a:moveTo>
                  <a:pt x="0" y="0"/>
                </a:moveTo>
                <a:lnTo>
                  <a:pt x="21600" y="0"/>
                </a:lnTo>
                <a:lnTo>
                  <a:pt x="21600" y="23664"/>
                </a:lnTo>
                <a:lnTo>
                  <a:pt x="0" y="23664"/>
                </a:lnTo>
                <a:close/>
              </a:path>
              <a:path fill="lightenLess" w="21600" h="236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64">
                <a:moveTo>
                  <a:pt x="21600" y="0"/>
                </a:moveTo>
                <a:lnTo>
                  <a:pt x="21600" y="23664"/>
                </a:lnTo>
                <a:lnTo>
                  <a:pt x="20200" y="22264"/>
                </a:lnTo>
                <a:lnTo>
                  <a:pt x="20200" y="1400"/>
                </a:lnTo>
                <a:close/>
              </a:path>
              <a:path fill="darkenLess" w="21600" h="23664">
                <a:moveTo>
                  <a:pt x="21600" y="23664"/>
                </a:moveTo>
                <a:lnTo>
                  <a:pt x="0" y="23664"/>
                </a:lnTo>
                <a:lnTo>
                  <a:pt x="1400" y="22264"/>
                </a:lnTo>
                <a:lnTo>
                  <a:pt x="20200" y="22264"/>
                </a:lnTo>
                <a:close/>
              </a:path>
              <a:path fill="lighten" w="21600" h="23664">
                <a:moveTo>
                  <a:pt x="0" y="236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64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826920" y="2276640"/>
            <a:ext cx="7777440" cy="23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250920" y="1172520"/>
            <a:ext cx="8497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 Работа над новой темо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Разгадайте ребята такую загадку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Я и тучка, и туман, я — река и океан. Я летаю и бегу, и стеклянной быть моту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Вода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ким цветом обозначена вода на карте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Синим)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скрутим наш глобус. Какого цвета стала Земля? Почему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Синего. Потому что 2/3 земной поверхности занимает вода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динакова ли вода на вкус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Нет, вода бывает пресная и соленая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кая вода в водоемах нашего края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Пресная) '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Где вода соленая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В морях и океанах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кие водоемы вы знаете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Океан, море, озеро, река, пруд, канал, водохранилище, ручей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авайте разделим названные водоемы на две группы по их происхождению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доемы созданные природой (естественные) и созданные человеком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искусственные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1042920" y="1302120"/>
            <a:ext cx="74898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II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должение изучения тем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ы отдыхаем  на реке, значит водоем—это место для отдыха люде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 еще что вы знаете о значении водоемов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Люди берут из водоемов воду для питья и приготовления пищи. Водоемы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это дом для растений и животных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Из водоемов берут воду для хозяйственных нужд. По воде перевозят грузы. Воду для работы берут заводы и фабрики.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Да, значение водоемов очень велико, потому что без воды не может существовать ни человек, ни животное, ни растение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 всегда ли мы правильно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дем себя, находясь у водоема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читайте об этом в учебнике на стр. 155 (5-ый абзац). Учащиеся читают вслух материал в учебник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Итак, мы прочитали сейчас о том, что нельзя допускать, чтобы в водоемах мыли транспорт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льзя бросать в воду мусор, оставлять мусор на берегу. Надо следить за чистотой воды, расчищать родники и ручь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8"/>
          <p:cNvSpPr/>
          <p:nvPr/>
        </p:nvSpPr>
        <p:spPr>
          <a:xfrm>
            <a:off x="826920" y="487080"/>
            <a:ext cx="76345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А сейчас поработаем с картой нашего края. Какие водоемы расположены на территории нашего края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Назовите естественные водоемы.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(Реки — Белая, Дема, Караидель, Ашкадар, Уршак; озера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—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Белое озеро, Кандракуль и Асылыкуль (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= 12 — 18 км ))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- Перечислите искусственные водоемы нашего края.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(Павловское водохранилище, Юмагузипское водохранилище, пруды в д. Уразметово, строящийся пруд в с.Первомайское)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 этом на экране демонстрируются фотографии водоемов.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Слайд №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Слайд №8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- На берегу какой реки расположено наше село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(Река Уршак)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- Вот как воспел в своём стихотворении Уршак наш земляк поэт Рашит Шакур.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{Ученица читает стихотворение «Уршак» на башкирском языке).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Демонстрируется слайд рек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Слайд №9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В настоящее время на заводах и фабриках строятся очистные сооружения, где использованная в производстве вода очищается и используется снова. Мы знаем, что вода — растворитель, в ней растворяются различные вещества, поэтому применение удобрений и химикатов в сельском хозяйстве, в больших количествах, также опасно для всего живого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611280" y="1822320"/>
            <a:ext cx="8208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АМЯТК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то еще загрязняет водоемы? Задание «Подумай!» на стр.156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кое значение в природе имеют водоемы?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(Хранилище воды для быта, производства, дома, приготовления пищи; место для отдыха; перевозка грузов.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III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Домашнее задани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готовить рассказ о реке Уршак по плану на стр. 153 и карте республик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ашкортостан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просы на стр. 156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AutoShape 5">
            <a:hlinkClick r:id="" action="ppaction://hlinkshowjump?jump=lastslide"/>
          </p:cNvPr>
          <p:cNvSpPr/>
          <p:nvPr/>
        </p:nvSpPr>
        <p:spPr>
          <a:xfrm>
            <a:off x="8101080" y="558972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ПАМЯТ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бросай мусор в вод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оставляй мусор на берег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 мой велосипед и другие транспортные средства на берегу рек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AutoShape 4">
            <a:hlinkClick r:id="" action="ppaction://hlinkshowjump?jump=previousslide"/>
          </p:cNvPr>
          <p:cNvSpPr/>
          <p:nvPr/>
        </p:nvSpPr>
        <p:spPr>
          <a:xfrm>
            <a:off x="8028000" y="5589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611280" y="732600"/>
            <a:ext cx="8281800" cy="46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Достопримечательностью Южного Урала, известной во всем мире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является </a:t>
            </a:r>
            <a:r>
              <a:rPr b="0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пещера Шульганташ.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расположенная на на правом берегу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реки Агидель в Бурзянском районе Башкортостан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ещера Шульганташ является не только уникальным памятником природы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но и всемирно известным памятником первобытного искусства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ещера напоминает дивный дворец с огромными залами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соединенными между собой широкими коридорам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Общая протяженность пещеры свыше 2 км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Входное отверстие пещеры в ширину 40м, в высоту—20м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Через пещеру протекает подземная река Шульган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Это одна из немногих пещер на земном шаре, в которой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сохранились рисунки первобытного человека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Слайд №1           Слайд №2                  Слайд №3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Слайд №4           Слайд №5                  Слайд №6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1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Капова пещер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rcRect l="0" t="0" r="56525" b="0"/>
          <a:stretch/>
        </p:blipFill>
        <p:spPr>
          <a:xfrm>
            <a:off x="1116000" y="1700280"/>
            <a:ext cx="7201080" cy="439272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8">
            <a:hlinkClick r:id="" action="ppaction://hlinkshowjump?jump=previousslide"/>
          </p:cNvPr>
          <p:cNvSpPr/>
          <p:nvPr/>
        </p:nvSpPr>
        <p:spPr>
          <a:xfrm>
            <a:off x="8317080" y="5815080"/>
            <a:ext cx="826920" cy="782640"/>
          </a:xfrm>
          <a:custGeom>
            <a:avLst/>
            <a:gdLst>
              <a:gd name="textAreaLeft" fmla="*/ 50400 w 826920"/>
              <a:gd name="textAreaRight" fmla="*/ 776520 w 826920"/>
              <a:gd name="textAreaTop" fmla="*/ 50400 h 782640"/>
              <a:gd name="textAreaBottom" fmla="*/ 732240 h 782640"/>
            </a:gdLst>
            <a:ahLst/>
            <a:rect l="textAreaLeft" t="textAreaTop" r="textAreaRight" b="textAreaBottom"/>
            <a:pathLst>
              <a:path w="22822" h="21600">
                <a:moveTo>
                  <a:pt x="0" y="0"/>
                </a:moveTo>
                <a:lnTo>
                  <a:pt x="22822" y="0"/>
                </a:lnTo>
                <a:lnTo>
                  <a:pt x="22822" y="21600"/>
                </a:lnTo>
                <a:lnTo>
                  <a:pt x="0" y="21600"/>
                </a:lnTo>
                <a:close/>
              </a:path>
              <a:path fill="lightenLess" w="22822" h="21600">
                <a:moveTo>
                  <a:pt x="0" y="0"/>
                </a:moveTo>
                <a:lnTo>
                  <a:pt x="22822" y="0"/>
                </a:lnTo>
                <a:lnTo>
                  <a:pt x="21422" y="1400"/>
                </a:lnTo>
                <a:lnTo>
                  <a:pt x="1400" y="1400"/>
                </a:lnTo>
                <a:close/>
              </a:path>
              <a:path fill="darken" w="22822" h="21600">
                <a:moveTo>
                  <a:pt x="22822" y="0"/>
                </a:moveTo>
                <a:lnTo>
                  <a:pt x="22822" y="21600"/>
                </a:lnTo>
                <a:lnTo>
                  <a:pt x="21422" y="20200"/>
                </a:lnTo>
                <a:lnTo>
                  <a:pt x="21422" y="1400"/>
                </a:lnTo>
                <a:close/>
              </a:path>
              <a:path fill="darkenLess" w="22822" h="21600">
                <a:moveTo>
                  <a:pt x="228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2" y="20200"/>
                </a:lnTo>
                <a:close/>
              </a:path>
              <a:path fill="lighten" w="228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2" h="21600">
                <a:moveTo>
                  <a:pt x="4404" y="7493"/>
                </a:moveTo>
                <a:lnTo>
                  <a:pt x="7912" y="7493"/>
                </a:lnTo>
                <a:lnTo>
                  <a:pt x="7912" y="12828"/>
                </a:lnTo>
                <a:cubicBezTo>
                  <a:pt x="7912" y="13751"/>
                  <a:pt x="8713" y="14482"/>
                  <a:pt x="9748" y="14482"/>
                </a:cubicBezTo>
                <a:lnTo>
                  <a:pt x="11411" y="14482"/>
                </a:lnTo>
                <a:cubicBezTo>
                  <a:pt x="12446" y="14482"/>
                  <a:pt x="13247" y="13751"/>
                  <a:pt x="13247" y="12828"/>
                </a:cubicBezTo>
                <a:lnTo>
                  <a:pt x="13247" y="7493"/>
                </a:lnTo>
                <a:lnTo>
                  <a:pt x="11411" y="7493"/>
                </a:lnTo>
                <a:lnTo>
                  <a:pt x="14918" y="3985"/>
                </a:lnTo>
                <a:lnTo>
                  <a:pt x="18591" y="7493"/>
                </a:lnTo>
                <a:lnTo>
                  <a:pt x="16755" y="7493"/>
                </a:lnTo>
                <a:lnTo>
                  <a:pt x="16755" y="12828"/>
                </a:lnTo>
                <a:cubicBezTo>
                  <a:pt x="16755" y="15596"/>
                  <a:pt x="14179" y="18155"/>
                  <a:pt x="11411" y="18155"/>
                </a:cubicBezTo>
                <a:lnTo>
                  <a:pt x="9748" y="18155"/>
                </a:lnTo>
                <a:cubicBezTo>
                  <a:pt x="6981" y="18155"/>
                  <a:pt x="4404" y="15596"/>
                  <a:pt x="4404" y="12828"/>
                </a:cubicBez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лайд №2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ход в Капову пещеру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45329" t="-83" r="2027" b="0"/>
          <a:stretch/>
        </p:blipFill>
        <p:spPr>
          <a:xfrm>
            <a:off x="971640" y="1700280"/>
            <a:ext cx="7345440" cy="44654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7">
            <a:hlinkClick r:id="" action="ppaction://hlinkshowjump?jump=previousslide"/>
          </p:cNvPr>
          <p:cNvSpPr/>
          <p:nvPr/>
        </p:nvSpPr>
        <p:spPr>
          <a:xfrm>
            <a:off x="8388360" y="5815080"/>
            <a:ext cx="755640" cy="709560"/>
          </a:xfrm>
          <a:custGeom>
            <a:avLst/>
            <a:gdLst>
              <a:gd name="textAreaLeft" fmla="*/ 45720 w 755640"/>
              <a:gd name="textAreaRight" fmla="*/ 709920 w 755640"/>
              <a:gd name="textAreaTop" fmla="*/ 45720 h 709560"/>
              <a:gd name="textAreaBottom" fmla="*/ 663840 h 709560"/>
            </a:gdLst>
            <a:ahLst/>
            <a:rect l="textAreaLeft" t="textAreaTop" r="textAreaRight" b="textAreaBottom"/>
            <a:pathLst>
              <a:path w="23002" h="21600">
                <a:moveTo>
                  <a:pt x="0" y="0"/>
                </a:moveTo>
                <a:lnTo>
                  <a:pt x="23002" y="0"/>
                </a:lnTo>
                <a:lnTo>
                  <a:pt x="23002" y="21600"/>
                </a:lnTo>
                <a:lnTo>
                  <a:pt x="0" y="21600"/>
                </a:lnTo>
                <a:close/>
              </a:path>
              <a:path fill="lightenLess" w="23002" h="21600">
                <a:moveTo>
                  <a:pt x="0" y="0"/>
                </a:moveTo>
                <a:lnTo>
                  <a:pt x="23002" y="0"/>
                </a:lnTo>
                <a:lnTo>
                  <a:pt x="21602" y="1400"/>
                </a:lnTo>
                <a:lnTo>
                  <a:pt x="1400" y="1400"/>
                </a:lnTo>
                <a:close/>
              </a:path>
              <a:path fill="darken" w="23002" h="21600">
                <a:moveTo>
                  <a:pt x="23002" y="0"/>
                </a:moveTo>
                <a:lnTo>
                  <a:pt x="23002" y="21600"/>
                </a:lnTo>
                <a:lnTo>
                  <a:pt x="21602" y="20200"/>
                </a:lnTo>
                <a:lnTo>
                  <a:pt x="21602" y="1400"/>
                </a:lnTo>
                <a:close/>
              </a:path>
              <a:path fill="darkenLess" w="23002" h="21600">
                <a:moveTo>
                  <a:pt x="230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02" y="20200"/>
                </a:lnTo>
                <a:close/>
              </a:path>
              <a:path fill="lighten" w="230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5:50:54Z</dcterms:created>
  <dc:creator>User</dc:creator>
  <dc:description/>
  <dc:language>en-US</dc:language>
  <cp:lastModifiedBy>Элеонора</cp:lastModifiedBy>
  <dcterms:modified xsi:type="dcterms:W3CDTF">2012-12-20T16:51:53Z</dcterms:modified>
  <cp:revision>11</cp:revision>
  <dc:subject/>
  <dc:title>Урок природоведения                                      «Водоемы нашего края»  4 класс</dc:title>
</cp:coreProperties>
</file>